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34E-5605-4D08-B174-85A63EA8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EFB-5F02-457B-B580-24F2734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9C8-DB7A-4CF8-BF7F-78579003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B5B-65EC-463F-8D2A-3C661476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0CA-8C13-4B4D-AA18-97FEE3DA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08B-E0FF-4374-9CE9-4B2DE9E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7AF-13A6-4E97-86A7-C29B198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0F2-538F-43F0-A729-9124946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068-4986-4F3C-BEB5-28D0183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363-1458-4B66-8ED4-E100D2F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A3D-3024-4DEE-A6F9-4A1153D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C6F-4312-4A83-9A4F-DB8E5179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2BD-92E8-4E6E-9AA2-2401AE21A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opy the following into your Essay s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 Bold"/>
                <a:ea typeface="SimSun"/>
              </a:rPr>
              <a:t>POWER is for Conclusions --- Start by restating your thesis then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P- positive and negative effec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O- opinion ( Don’t say I think—state your opinion as fac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W- WWJLS?  What would John Locke say?  Or any other historical figu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E- examples (refer back to your examples in your essa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R- relate back to to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im:  What caused the USA to enter the war?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Copy your vocabulary into your gloss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9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tal War: when all aspects of a country’s production is put towards war effo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0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restricted Submarine Warfare:  where  submarines would sink merchant ships with out warning instead of battle 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immerman telegram: secret message that pushed the USA into WW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ning: controlled distribution of scarce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arations: debts owed from losing countries in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life like in Euro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tal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aused many jobs to be empty(men were at w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ecrease in food production which left many hung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ore women were able to work in factories and other business (was a positive step for women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ue to the scarce food ration stamps were provided to pass out major supp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d the USA to enter the wa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fficially, the U.S. was a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ountry. However, we traded food, weapons, oil, steel, and other goods far more with the Allied Powers than with the Central Pow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rman submarines, called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U-boa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orpedoed enemy ships and neutral ships trading with the ene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1915, a German submarine torpedoed the 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Comic Sans MS"/>
              </a:rPr>
              <a:t>Lusitani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a British passenger ship, killing approximately 1,200 people, including 128 Ameri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mericans were infuriated with the destruction of the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Lusitani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7820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oward War:  Zimmerman Tele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a secret message from Germany to Mexico urging Mexico to attack the U.S. if the U.S. declared war on 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promised to help Mexico regain land it lost to the U.S. in the Mexican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.S. declared war on the Central Powers in 19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3886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8:52:54Z</dcterms:created>
  <dc:creator>NYCDOE</dc:creator>
  <dc:description/>
  <dc:language>en-US</dc:language>
  <cp:lastModifiedBy>NYCDOE</cp:lastModifiedBy>
  <dcterms:modified xsi:type="dcterms:W3CDTF">2012-01-12T19:22:57Z</dcterms:modified>
  <cp:revision>1</cp:revision>
  <dc:subject/>
  <dc:title>Copy the following into your Essay section</dc:title>
</cp:coreProperties>
</file>